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BB8E-79AD-4A1B-ACBA-93A815B8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E11F-BF8F-408E-A411-D5A21E9A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D16F-6604-4AEA-83B5-2098D75C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D879-2019-4AB1-8553-7B3BCD27A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BCB9-2B64-4151-ABE1-2C3153C7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7677-18D3-44E3-905F-ACC71D58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E109-66AA-4378-AFBE-A7A419A5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BAC4-D1C8-4CC0-9AF1-0F099C06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05BF-5B30-422D-A43D-43FA97BD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5E55-5341-47E9-942A-711DDF85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A2E6-270D-4C13-9283-6E82A5CE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58CE-2BB2-46C0-86F6-A99C30BF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3075-9F85-4C7E-A690-8FBFB8140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52 Trón svoj si opusti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z vďaky ti srdce dáv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aj vždy v ňom svoj chr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a raz vrátiš k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o Kráľ a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e ťa radostne privít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ďakou sa chveje hl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za krátky č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deš už domov nás si vzi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z vďaky ti srdce dáv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aj vždy v ňom svoj chr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rón svoj si opust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na zemi ž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rahý náš Spasiteľ, Boží Sy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betlehemskej maštal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 ti ustla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si svet prišiel zbaviť ví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z vďaky ti srdce dáv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aj vždy v ňom svoj chr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njeli spieva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u vzdáva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ľudí ťa málokto privít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zľakol si sa strá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ám si prišiel rá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a nás život svoj si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z vďaky ti srdce dáv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aj vždy v ňom svoj chr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l si tu na sve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šnej plané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ríži podstúpil ťažký b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však zvíťaz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iabla poraz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ím sa ti odvďačím, Boh môj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37:24Z</dcterms:modified>
  <cp:revision>31</cp:revision>
  <dc:subject/>
  <dc:title>Je veľký náš Pán, on slávy je Kráľ Nech do všetkých strán  spev vrúcnych znie chvál.</dc:title>
</cp:coreProperties>
</file>